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2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6E6-9F98-48EF-9D9B-E38EC40B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5A8-C386-41A7-98CE-EAADBCED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928-3C83-4D2F-A159-4252526D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AA9-9368-42D7-A217-47BA51F6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06B5-4397-4D9C-A55F-EC9C418E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9DDC-19E3-4DB8-BD4A-0FA63376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C400-1727-454A-83C8-E4268858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8DEC-D475-4A73-8278-455976AD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D1E2-264A-40B3-BB0C-15A5AABA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D852-B240-4D07-902C-91FB25CB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6FD4-6FE8-47D1-BFCC-F187AED5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7B4-6FEB-4708-84CF-8B1764D9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77F1-C827-40D7-8240-08A3980D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3AD5-7189-4F89-925D-07FC25F9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04BC-E31B-474F-9280-702878E7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83E1-32B0-4E50-BA6B-BFE292C0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4D91-0E19-4A96-8C76-849F8D92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D33C-289B-4AAB-9D2E-30264F46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375-B250-4464-8CAE-EF423913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385-EB82-401E-BEFB-2368B801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176-88E7-47D9-A835-13470781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A7C-1794-409C-A9FE-B1F6ABF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DC2-0F7B-4F3F-B960-D511EB25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7C6-B1DC-4784-B55D-FBFAA4B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3AB1-78C0-4BF8-BA8E-BDAE0991DB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CC2E-31C8-4FD7-A634-F3466BA67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221304"/>
                </a:solidFill>
                <a:latin typeface="Times New Roman"/>
              </a:rPr>
              <a:t>VII </a:t>
            </a: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городская конференция молодых исследователей</a:t>
            </a:r>
            <a:br>
              <a:rPr sz="1800"/>
            </a:b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«Шаг в будущее».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560" y="1905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а: «Вопрос жизни и смер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льфутдинова Эльви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колюк Натал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825480" cy="955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56880" y="61722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 Лангепас 2006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На ваш взгляд нужно ли вводить смертную казнь в нашей стране?</a:t>
            </a:r>
            <a:br>
              <a:rPr sz="32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90720" y="1457280"/>
          <a:ext cx="784836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57280"/>
                    <a:ext cx="784836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066680" y="1295280"/>
          <a:ext cx="7620120" cy="4343400"/>
        </p:xfrm>
        <a:graphic>
          <a:graphicData uri="http://schemas.openxmlformats.org/drawingml/2006/table">
            <a:tbl>
              <a:tblPr/>
              <a:tblGrid>
                <a:gridCol w="2514600"/>
                <a:gridCol w="2565360"/>
                <a:gridCol w="2540160"/>
              </a:tblGrid>
              <a:tr h="14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дебат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дебат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200400" y="6087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ы дебат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«…ужасы смертной казни не производили потрясающего впечатления, не вызывали протеста и отвращения…»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6600" y="2895480"/>
            <a:ext cx="49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А.А.Пионтковский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5120" y="3733920"/>
          <a:ext cx="266688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266688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837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««Так что же смертная казнь как уголовное наказание для общества – польза или зло? Зло все то, что лишает человека жизни, ибо человек рождается на свет для созидания, а не для того, чтобы преждевременно, да еще насильственно лишится дарованной ему природой жизни. И в этом, общефилософском, гуманистическом смысле смертная казнь зло».</a:t>
            </a:r>
            <a:br>
              <a:rPr sz="36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8480" y="3581280"/>
            <a:ext cx="26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(И.И.Карпец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2031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Какое наказание предпочтительно за убийство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смертная казнь или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пожизненное заключение?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371600"/>
          <a:ext cx="78962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8962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Если допущена судебная ошибка, то после приведения в исполнение смертного приговора она не может быть исправлена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86200" y="3581280"/>
          <a:ext cx="2467080" cy="22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581280"/>
                    <a:ext cx="246708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219320" y="304920"/>
            <a:ext cx="7619400" cy="6095880"/>
            <a:chOff x="1219320" y="304920"/>
            <a:chExt cx="7619400" cy="6095880"/>
          </a:xfrm>
        </p:grpSpPr>
        <p:grpSp>
          <p:nvGrpSpPr>
            <p:cNvPr id="144" name=""/>
            <p:cNvGrpSpPr/>
            <p:nvPr/>
          </p:nvGrpSpPr>
          <p:grpSpPr>
            <a:xfrm>
              <a:off x="1224720" y="307800"/>
              <a:ext cx="7607880" cy="6089400"/>
              <a:chOff x="1224720" y="307800"/>
              <a:chExt cx="7607880" cy="60894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224720" y="307800"/>
                <a:ext cx="3803760" cy="453600"/>
                <a:chOff x="1224720" y="307800"/>
                <a:chExt cx="3803760" cy="4536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304280" y="307800"/>
                  <a:ext cx="3644280" cy="45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за»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24720" y="307800"/>
                  <a:ext cx="3803760" cy="45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28840" y="307800"/>
                <a:ext cx="3803760" cy="453600"/>
                <a:chOff x="5028840" y="307800"/>
                <a:chExt cx="3803760" cy="4536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040" y="307800"/>
                  <a:ext cx="3644640" cy="45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против»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28840" y="307800"/>
                  <a:ext cx="3803760" cy="45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224720" y="761400"/>
                <a:ext cx="3803760" cy="5635800"/>
                <a:chOff x="1224720" y="761400"/>
                <a:chExt cx="3803760" cy="56358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304280" y="761400"/>
                  <a:ext cx="3644280" cy="56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мертная казнь  создана для предотвращения преступлений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Злодеяние должно быть наказано по принципу «око за око, зуб за зуб»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Налоги граждан нужно использовать не на пожизненное содержание  убийц в тюрьме, а на другие нужды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24720" y="761400"/>
                  <a:ext cx="3803760" cy="56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028840" y="761400"/>
                <a:ext cx="3803760" cy="5635800"/>
                <a:chOff x="5028840" y="761400"/>
                <a:chExt cx="3803760" cy="56358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108040" y="761400"/>
                  <a:ext cx="3644640" cy="56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Жизнь – это естественное право каждого, которое никто не может отнять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Гражданское общество и правовое государство должны создаваться  на принципах гуманизма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мертный приговор може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ыть ошибочен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мертная казнь отнимает  у преступника возможность исправления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мертная казнь не устрашает и не удерживает людей, склонных к тяжким преступлениям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 </a:t>
                  </a:r>
                  <a:r>
                    <a:rPr b="1" lang="ru-RU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реступника можно наказать тяжелой работой, приносящей пользу обществу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028840" y="761400"/>
                  <a:ext cx="3803760" cy="56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1219320" y="304920"/>
              <a:ext cx="7619400" cy="6095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21304"/>
                </a:solidFill>
                <a:uFillTx/>
                <a:latin typeface="Times New Roman"/>
              </a:rPr>
              <a:t>План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ед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рос жизни и смер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тория вопроса о смертной ка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ос и дебаты среди учащихся гимназии №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гументы «за» и «против» смертной ка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ые варианты решения пробл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. Вы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и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писок литерат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 u="sng">
                <a:solidFill>
                  <a:srgbClr val="221304"/>
                </a:solidFill>
                <a:uFillTx/>
                <a:latin typeface="Times New Roman"/>
              </a:rPr>
              <a:t>Цель: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Выявить главные позиции современного российского общества в вопросе о смертной казни  и  предложить возможный вариант решения проблемы.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23619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ссмотреть историю вопроса о смертной казни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явить, какого мнения о необходимости смертной казни придерживались видные  общественно – политические деяте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знакомиться с мнениями современников о высшей мере наказания через анкетные опросы и через участие в дебат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21304"/>
                </a:solidFill>
                <a:uFillTx/>
                <a:latin typeface="Times New Roman"/>
              </a:rPr>
              <a:t>Гипотезы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Если мы рассмотрим позиции общественно – политических деятелей по проблеме о смертной казни, то сможем выявить аргументы «за» и «против»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Если мы познакомимся с общественным мнением в вопросе о смертной казни, то сможем предложить один из возможных вариантов решения проблемы.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Россия – член Совета Европы с 16 мая 1996г.</a:t>
            </a:r>
            <a:br>
              <a:rPr sz="3200"/>
            </a:b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Подписание и ратификация Протокола №6.</a:t>
            </a:r>
            <a:br>
              <a:rPr sz="28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Установление моратория на исполнение смертных приговоров.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867280" y="2438280"/>
          <a:ext cx="21211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438280"/>
                    <a:ext cx="2121120" cy="2286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743200" y="36576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15238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Множество способов исполнения смертной казни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2627280" cy="236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5238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4120" y="4038480"/>
          <a:ext cx="26287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4038480"/>
                    <a:ext cx="26287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76520" y="4114800"/>
          <a:ext cx="228600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11480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Смертная казнь несколько раз отменялась в России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 сентября 1754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 императрицы Елизаветы об отмене смертной казни и о замене ее каторжными работ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9 июня 1906 г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ая Дума приняла законопроект об отмене смертной ка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6 мая 1996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писание и ратификация Протокола № 6 и  установление моратория на исполнение смертных приговор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2743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572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826 - 1906 гг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962 – 1990 г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а 80 лет)                             (за 28 л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говорено к смертной каз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12 чел.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5 тыс. че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знен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0 чел.                          21 тыс. ч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1 или 2 чел. в год)         (около 730 чел. в год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28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38098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8:36Z</dcterms:created>
  <dc:creator>Гость</dc:creator>
  <dc:description/>
  <dc:language>en-US</dc:language>
  <cp:lastModifiedBy>Наташа</cp:lastModifiedBy>
  <dcterms:modified xsi:type="dcterms:W3CDTF">2006-12-26T19:45:19Z</dcterms:modified>
  <cp:revision>18</cp:revision>
  <dc:subject/>
  <dc:title>Ханты – Мансийский автономный округ – Югра Городской округ город Лангепас  Муниципальное общеобразовательное учреждение “Гимназия №6”  </dc:title>
</cp:coreProperties>
</file>